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101-9ABF-44E1-833B-23774D5D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09640" y="302472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332-13C0-4058-9193-B00186E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74716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1FE-A3AB-4966-A70D-5698E6E7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8836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6708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0964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08836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36708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0B6-9EB8-4CE4-8797-36F32A98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2E98-C7D6-4EB9-BFB8-B86F8F9A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09640" y="2447640"/>
            <a:ext cx="3781440" cy="1104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FF5D-859B-4F0B-B159-713388F4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37814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793F-6443-4498-A4E4-4C806D1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E9EA-8075-4F41-B546-620D14B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2AB0-F59F-4A4E-967E-7B27C7C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04280" y="1114560"/>
            <a:ext cx="4591080" cy="507096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1E5-34F4-45BA-A6B6-5533737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262-6BF3-40AB-89B3-A788DE7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09640" y="2447640"/>
            <a:ext cx="3781440" cy="1104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A2A-5139-46F9-B542-E0813224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74716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84D-CE96-4E6B-9E0C-E43D857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C86-B27B-499D-A1DD-C5DF530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09640" y="302472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5CDA-5738-4742-BD3C-17C84650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74716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032A-800E-4589-829A-DF4F7076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8836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67080" y="244764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0964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08836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367080" y="3024720"/>
            <a:ext cx="121752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5C9D-A0DA-4A67-B220-CDD51474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37814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148-BAB1-40A5-80AE-C4C93B18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EFE-855A-4C1A-B24A-0FC7879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B1-EDB9-438C-8345-148B885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4280" y="1114560"/>
            <a:ext cx="4591080" cy="507096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219-A87D-4FAF-A9D9-8C7E774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C93-CA07-4C24-8533-08EB8A9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7160" y="302472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C88-F665-4154-B46A-1F3655A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964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47160" y="2447640"/>
            <a:ext cx="184500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9640" y="3024720"/>
            <a:ext cx="3781440" cy="5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7E8-81B2-4D66-A2B3-1DFD2A5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44600" y="1127160"/>
            <a:ext cx="3166200" cy="3185640"/>
            <a:chOff x="2244600" y="1127160"/>
            <a:chExt cx="3166200" cy="3185640"/>
          </a:xfrm>
        </p:grpSpPr>
        <p:sp>
          <p:nvSpPr>
            <p:cNvPr id="1" name=""/>
            <p:cNvSpPr/>
            <p:nvPr/>
          </p:nvSpPr>
          <p:spPr>
            <a:xfrm>
              <a:off x="3966120" y="1365120"/>
              <a:ext cx="184680" cy="10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30560" y="1185120"/>
              <a:ext cx="43920" cy="468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4880160" y="1495080"/>
              <a:ext cx="5400" cy="2073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67320" y="3508560"/>
              <a:ext cx="61560" cy="961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5144760" y="1535040"/>
              <a:ext cx="5400" cy="19987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5288040" y="1520640"/>
              <a:ext cx="5400" cy="8812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3228840" y="1815840"/>
              <a:ext cx="5400" cy="2033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2584800" y="1821240"/>
              <a:ext cx="5400" cy="2119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2845440" y="1870200"/>
              <a:ext cx="5400" cy="190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6960" y="3021480"/>
              <a:ext cx="583920" cy="155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65080" y="3591720"/>
              <a:ext cx="933840" cy="1260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87400" y="3645720"/>
              <a:ext cx="911160" cy="245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04320" y="3591720"/>
              <a:ext cx="894600" cy="900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67760" y="1541160"/>
              <a:ext cx="95400" cy="1551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867760" y="1690200"/>
              <a:ext cx="84240" cy="961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867760" y="1767960"/>
              <a:ext cx="84240" cy="108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28920" y="1204920"/>
              <a:ext cx="95400" cy="155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134680" y="1348920"/>
              <a:ext cx="78480" cy="957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28920" y="1433160"/>
              <a:ext cx="84240" cy="10764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089320" y="3525840"/>
              <a:ext cx="61560" cy="961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828520" y="1127160"/>
              <a:ext cx="2440800" cy="443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50760" y="3773880"/>
              <a:ext cx="78840" cy="950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43120" y="3872880"/>
              <a:ext cx="84240" cy="108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50000" y="3872880"/>
              <a:ext cx="67320" cy="900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291040" y="3839040"/>
              <a:ext cx="1293840" cy="3888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244600" y="3835080"/>
              <a:ext cx="1408320" cy="288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8520" y="3861000"/>
              <a:ext cx="1335960" cy="21996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09640" y="3789000"/>
              <a:ext cx="83880" cy="957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083920" y="3603600"/>
              <a:ext cx="67320" cy="10764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973320" y="1773000"/>
              <a:ext cx="162000" cy="2539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020480" y="1545120"/>
              <a:ext cx="70920" cy="239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956760" y="1743120"/>
              <a:ext cx="191880" cy="5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037400" y="1528920"/>
              <a:ext cx="236160" cy="15764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908880" y="1420920"/>
              <a:ext cx="297000" cy="137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" y="174600"/>
            <a:ext cx="4860720" cy="7207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270000" y="1007640"/>
            <a:ext cx="4860720" cy="28544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450720" indent="-172800">
              <a:spcBef>
                <a:spcPts val="4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693720" indent="-138240">
              <a:spcBef>
                <a:spcPts val="4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971640" indent="-138240">
              <a:spcBef>
                <a:spcPts val="4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4" marL="1249200" indent="-137880">
              <a:spcBef>
                <a:spcPts val="4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5" marL="1249200" indent="-137880">
              <a:spcBef>
                <a:spcPts val="4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6" marL="1249200" indent="-137880">
              <a:spcBef>
                <a:spcPts val="4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269640" y="3956040"/>
            <a:ext cx="126036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1844640" y="3956040"/>
            <a:ext cx="171144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3870000" y="3956040"/>
            <a:ext cx="126036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fld id="{48A74171-D35B-4E0C-9D15-5BC0166255B4}" type="slidenum">
              <a:rPr b="0" lang="en-US" sz="7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44600" y="1127160"/>
            <a:ext cx="3166200" cy="3185640"/>
            <a:chOff x="2244600" y="1127160"/>
            <a:chExt cx="3166200" cy="3185640"/>
          </a:xfrm>
        </p:grpSpPr>
        <p:sp>
          <p:nvSpPr>
            <p:cNvPr id="77" name=""/>
            <p:cNvSpPr/>
            <p:nvPr/>
          </p:nvSpPr>
          <p:spPr>
            <a:xfrm>
              <a:off x="3966120" y="1365120"/>
              <a:ext cx="184680" cy="10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0560" y="1185120"/>
              <a:ext cx="43920" cy="468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4880160" y="1495080"/>
              <a:ext cx="5400" cy="2073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67320" y="3508560"/>
              <a:ext cx="61560" cy="961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5144760" y="1535040"/>
              <a:ext cx="5400" cy="19987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5288040" y="1520640"/>
              <a:ext cx="5400" cy="8812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3228840" y="1815840"/>
              <a:ext cx="5400" cy="2033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2584800" y="1821240"/>
              <a:ext cx="5400" cy="2119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2845440" y="1870200"/>
              <a:ext cx="5400" cy="190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56960" y="3021480"/>
              <a:ext cx="583920" cy="155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5080" y="3591720"/>
              <a:ext cx="933840" cy="1260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7400" y="3645720"/>
              <a:ext cx="911160" cy="245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04320" y="3591720"/>
              <a:ext cx="894600" cy="900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67760" y="1541160"/>
              <a:ext cx="95400" cy="1551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67760" y="1690200"/>
              <a:ext cx="84240" cy="961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7760" y="1767960"/>
              <a:ext cx="84240" cy="108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28920" y="1204920"/>
              <a:ext cx="95400" cy="155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34680" y="1348920"/>
              <a:ext cx="78480" cy="957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28920" y="1433160"/>
              <a:ext cx="84240" cy="10764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89320" y="3525840"/>
              <a:ext cx="61560" cy="961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28520" y="1127160"/>
              <a:ext cx="2440800" cy="443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50760" y="3773880"/>
              <a:ext cx="78840" cy="950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43120" y="3872880"/>
              <a:ext cx="84240" cy="108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0000" y="3872880"/>
              <a:ext cx="67320" cy="900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91040" y="3839040"/>
              <a:ext cx="1293840" cy="3888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44600" y="3835080"/>
              <a:ext cx="1408320" cy="288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8520" y="3861000"/>
              <a:ext cx="1335960" cy="21996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9640" y="3789000"/>
              <a:ext cx="83880" cy="957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83920" y="3603600"/>
              <a:ext cx="67320" cy="10764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73320" y="1773000"/>
              <a:ext cx="162000" cy="2539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20480" y="1545120"/>
              <a:ext cx="70920" cy="239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6760" y="1743120"/>
              <a:ext cx="191880" cy="5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7400" y="1528920"/>
              <a:ext cx="236160" cy="15764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8880" y="1420920"/>
              <a:ext cx="297000" cy="137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269640" y="3956040"/>
            <a:ext cx="126036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1844640" y="3956040"/>
            <a:ext cx="171144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33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3870000" y="3956040"/>
            <a:ext cx="1260360" cy="2872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  <a:defRPr b="0" lang="en-US" sz="7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fld id="{9308F669-9E19-4899-800B-EB865895C956}" type="slidenum">
              <a:rPr b="0" lang="en-US" sz="7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270000" y="1010880"/>
            <a:ext cx="485964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277920" indent="0" algn="ctr">
              <a:spcBef>
                <a:spcPts val="425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555480" algn="ctr">
              <a:spcBef>
                <a:spcPts val="374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833400" algn="ctr">
              <a:spcBef>
                <a:spcPts val="3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111320" algn="ctr">
              <a:spcBef>
                <a:spcPts val="300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5" marL="1111320">
              <a:spcBef>
                <a:spcPts val="3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6" marL="1111320">
              <a:spcBef>
                <a:spcPts val="3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280" y="1114560"/>
            <a:ext cx="4591080" cy="1093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b" anchorCtr="1">
            <a:noAutofit/>
          </a:bodyPr>
          <a:p>
            <a:pPr indent="0" algn="ctr"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09640" y="2447640"/>
            <a:ext cx="3781440" cy="11048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73080"/>
            <a:ext cx="4968720" cy="417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00560" y="596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4986000" y="-217440"/>
            <a:ext cx="33264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ffcc66"/>
                </a:solidFill>
                <a:latin typeface="Microsoft JhengHei UI Light"/>
                <a:ea typeface="Microsoft JhengHei UI Light"/>
              </a:rPr>
              <a:t>ΗΛΙΑΣ </a:t>
            </a:r>
            <a:r>
              <a:rPr b="0" lang="el-GR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ffcc66"/>
                </a:solidFill>
                <a:latin typeface="Microsoft JhengHei UI Light"/>
                <a:ea typeface="Microsoft JhengHei UI Light"/>
              </a:rPr>
              <a:t>ΠΟΛΙΤΗΣ </a:t>
            </a:r>
            <a:r>
              <a:rPr b="0" lang="en-US" sz="1000" spc="-1" strike="noStrike">
                <a:solidFill>
                  <a:srgbClr val="ffcc66"/>
                </a:solidFill>
                <a:latin typeface="Microsoft JhengHei UI Light"/>
                <a:ea typeface="Microsoft JhengHei UI Light"/>
              </a:rPr>
              <a:t>       </a:t>
            </a:r>
            <a:r>
              <a:rPr b="0" lang="el-GR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c66"/>
                </a:solidFill>
                <a:latin typeface="Arial"/>
              </a:rPr>
              <a:t>GLOBAL 02</a:t>
            </a:r>
            <a:r>
              <a:rPr b="0" lang="el-GR" sz="1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l-GR" sz="1000" spc="-1" strike="noStrike">
                <a:solidFill>
                  <a:srgbClr val="ffcc66"/>
                </a:solidFill>
                <a:latin typeface="Microsoft JhengHei UI Light"/>
                <a:ea typeface="Microsoft JhengHei UI Light"/>
              </a:rPr>
              <a:t>« ΕΠΙΒΑΤΗΣ» ΔΙΣΚΟΣ ΠΡΩΤΟ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660240"/>
            <a:ext cx="301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1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Εγώ ζω -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Νίκος Παπαθεοφάνους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2. </a:t>
            </a:r>
            <a:r>
              <a:rPr b="1" lang="el-GR" sz="8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Μια φορά κι ένα καιρό - Δέσποινα Παντελίδο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3. 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Φταίω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-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Κώστας Ξηρογιάννης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4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Θυ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άσαι.. – 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Γιώργος Στα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τόπουλο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5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Άδεια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6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Είπα να φύγω – Δέσποινα Παντελίδο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7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Ποτέ - 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8. </a:t>
            </a:r>
            <a:r>
              <a:rPr b="1" lang="el-GR" sz="8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Τελειώνουν οι λέξεις – Δέσποινα Παντελίδο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Δέσποινα Παντελίδου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09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Άνθρωπος εί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ι κι εγώ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Ντέπη Μανώνα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0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 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λάνη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1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Κοίτα τι έκανα για σένα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Γιώργος Στα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τόπουλος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647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1008000"/>
            <a:ext cx="24480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2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Θάλασσα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: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Δέσποινα Παντελίδο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ood Times"/>
                <a:ea typeface="SimSun"/>
              </a:rPr>
              <a:t>13.</a:t>
            </a:r>
            <a:r>
              <a:rPr b="1" lang="el-GR" sz="1000" spc="-1" strike="noStrike">
                <a:solidFill>
                  <a:srgbClr val="ffffff"/>
                </a:solidFill>
                <a:latin typeface="Good Times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Εσύ 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 ’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γάπησες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Δη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ήτρης Λιάκο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4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θώα ή Ένοχη – 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Γιώργος Ντέρο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5. </a:t>
            </a:r>
            <a:r>
              <a:rPr b="1" lang="el-GR" sz="8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Φωτογραφίες -</a:t>
            </a:r>
            <a:r>
              <a:rPr b="1" lang="el-GR" sz="8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Δέσποινα Παντελίδο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: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Δέσποινα Παντελίδο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6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π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την ανάσα σου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: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Δέσποινα Παντελίδου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7. 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Ο Ποταμός του νου – 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Στίχοι</a:t>
            </a:r>
            <a:r>
              <a:rPr b="1" lang="zh-CN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：</a:t>
            </a:r>
            <a:r>
              <a:rPr b="1" lang="el-GR" sz="9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Γεώργιος Νικολακάκο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8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Χωρίς Ταξίδια – Ηλίας Πολίτη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Ηλίας Πολίτης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19.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Πάντα – Ηλίας Πολίτη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Βασίλης Τραϊφόρος</a:t>
            </a: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Good Times"/>
              </a:rPr>
              <a:t>20 .</a:t>
            </a:r>
            <a:r>
              <a:rPr b="1" lang="el-GR" sz="8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Του καη</a:t>
            </a:r>
            <a:r>
              <a:rPr b="1" lang="el-GR" sz="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8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ού αερικό – Ηλίας Πολίτη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Στίχοι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: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 Ελένη Μέη Αση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l-GR" sz="900" spc="-1" strike="noStrike">
                <a:solidFill>
                  <a:srgbClr val="ffffff"/>
                </a:solidFill>
                <a:latin typeface="Microsoft JhengHei UI Light"/>
                <a:ea typeface="Microsoft JhengHei UI Light"/>
              </a:rPr>
              <a:t>ακοπούλο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5080" y="3697200"/>
            <a:ext cx="2377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Ενορχ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ή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στρωση </a:t>
            </a:r>
            <a:r>
              <a:rPr b="1" lang="en-US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: 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Ηλ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ί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α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ς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 Πολ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ί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τη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ς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Παντελ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ής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 Τσ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ά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ντο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ς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 </a:t>
            </a:r>
            <a:r>
              <a:rPr b="1" lang="el-GR" sz="700" spc="-1" strike="noStrike">
                <a:solidFill>
                  <a:srgbClr val="ffffff"/>
                </a:solidFill>
                <a:latin typeface="Good Times"/>
                <a:ea typeface="FZLanTingHeiS-UL-GB"/>
              </a:rPr>
              <a:t>1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Χρ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ή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στο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ς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 Με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ϊ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μ</a:t>
            </a:r>
            <a:r>
              <a:rPr b="1" lang="el-GR" sz="7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ά</a:t>
            </a:r>
            <a:r>
              <a:rPr b="1" lang="el-GR" sz="700" spc="-1" strike="noStrike">
                <a:solidFill>
                  <a:srgbClr val="ffffff"/>
                </a:solidFill>
                <a:latin typeface="FZLanTingHeiS-UL-GB"/>
                <a:ea typeface="FZLanTingHeiS-UL-GB"/>
              </a:rPr>
              <a:t>ρογλου </a:t>
            </a:r>
            <a:r>
              <a:rPr b="1" lang="el-GR" sz="700" spc="-1" strike="noStrike">
                <a:solidFill>
                  <a:srgbClr val="ffffff"/>
                </a:solidFill>
                <a:latin typeface="Good Times"/>
                <a:ea typeface="FZLanTingHeiS-UL-GB"/>
              </a:rPr>
              <a:t>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7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Μουσικές Εκδόσεις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            </a:t>
            </a: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7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Πιπίνου 32 Αθήνα </a:t>
            </a:r>
            <a:r>
              <a:rPr b="1" lang="el-GR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700" spc="-1" strike="noStrike">
                <a:solidFill>
                  <a:srgbClr val="ffffff"/>
                </a:solidFill>
                <a:latin typeface="Yu Gothic UI Light"/>
                <a:ea typeface="Yu Gothic UI Light"/>
              </a:rPr>
              <a:t>Τ.Κ 112 5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3745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8a500"/>
                </a:solidFill>
                <a:latin typeface="Microsoft JhengHei UI Light"/>
                <a:ea typeface="Microsoft JhengHei UI Light"/>
              </a:rPr>
              <a:t>      </a:t>
            </a:r>
            <a:r>
              <a:rPr b="1" lang="el-GR" sz="1000" spc="-1" strike="noStrike">
                <a:solidFill>
                  <a:srgbClr val="f8a500"/>
                </a:solidFill>
                <a:latin typeface="Bookman Old Style"/>
                <a:ea typeface="Yu Gothic UI Light"/>
              </a:rPr>
              <a:t>ΔΙΣΚΟΣ ΠΡΩΤΟ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3889440"/>
            <a:ext cx="792000" cy="27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492360" y="388944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11:36:58Z</dcterms:created>
  <dc:creator>ELIAS</dc:creator>
  <dc:description/>
  <dc:language>en-US</dc:language>
  <cp:lastModifiedBy>ELIAS</cp:lastModifiedBy>
  <dcterms:modified xsi:type="dcterms:W3CDTF">2018-04-16T16:23:42Z</dcterms:modified>
  <cp:revision>23</cp:revision>
  <dc:subject/>
  <dc:title>Διαφάνεια 1</dc:title>
</cp:coreProperties>
</file>