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4319588" cy="431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22C7-E595-495E-9058-4682FAB3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71280" y="720360"/>
            <a:ext cx="3133800" cy="1392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47280" y="2496600"/>
            <a:ext cx="324180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47280" y="3023640"/>
            <a:ext cx="324180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2AB5-BAB0-4690-9BE7-B4460CE0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720360"/>
            <a:ext cx="3133800" cy="1392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280" y="2496600"/>
            <a:ext cx="15818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08680" y="2496600"/>
            <a:ext cx="15818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7280" y="3023640"/>
            <a:ext cx="15818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308680" y="3023640"/>
            <a:ext cx="15818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ABC7-71D1-4E9C-A793-DA4D6DFC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280" y="720360"/>
            <a:ext cx="3133800" cy="1392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47280" y="2496600"/>
            <a:ext cx="10436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743480" y="2496600"/>
            <a:ext cx="10436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839680" y="2496600"/>
            <a:ext cx="10436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47280" y="3023640"/>
            <a:ext cx="10436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1743480" y="3023640"/>
            <a:ext cx="10436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2839680" y="3023640"/>
            <a:ext cx="10436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B983-D999-4FF8-851D-FE6998F1E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C443-D624-4D46-85B3-480FD19E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720360"/>
            <a:ext cx="3133800" cy="1392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47280" y="2496600"/>
            <a:ext cx="3241800" cy="1008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192B-7DEE-426F-9CFF-4E05D544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280" y="720360"/>
            <a:ext cx="3133800" cy="1392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7280" y="2496600"/>
            <a:ext cx="324180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D9C8-B197-46A3-B678-665B65B6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720360"/>
            <a:ext cx="3133800" cy="1392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280" y="2496600"/>
            <a:ext cx="15818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308680" y="2496600"/>
            <a:ext cx="15818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3E0A-4808-417C-ABFB-B7F81A9D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720360"/>
            <a:ext cx="3133800" cy="1392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85C9-805D-4D17-BD27-B0067465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71280" y="720360"/>
            <a:ext cx="3133800" cy="6454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DC0C-1423-423D-8EA5-36B08C14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280" y="720360"/>
            <a:ext cx="3133800" cy="1392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7280" y="2496600"/>
            <a:ext cx="15818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308680" y="2496600"/>
            <a:ext cx="15818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7280" y="3023640"/>
            <a:ext cx="15818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2E60-4F22-40F0-8580-57E8DEE4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720360"/>
            <a:ext cx="3133800" cy="1392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47280" y="2496600"/>
            <a:ext cx="3241800" cy="1008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6FE8-A789-4250-9BF7-E2F1101D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1280" y="720360"/>
            <a:ext cx="3133800" cy="1392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47280" y="2496600"/>
            <a:ext cx="15818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308680" y="2496600"/>
            <a:ext cx="15818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308680" y="3023640"/>
            <a:ext cx="15818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A727-0DC0-471F-8DEE-E5EADE77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280" y="720360"/>
            <a:ext cx="3133800" cy="1392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47280" y="2496600"/>
            <a:ext cx="15818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308680" y="2496600"/>
            <a:ext cx="15818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7280" y="3023640"/>
            <a:ext cx="324180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AFC4-4E31-4B2F-AD82-92F493A6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280" y="720360"/>
            <a:ext cx="3133800" cy="1392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47280" y="2496600"/>
            <a:ext cx="324180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47280" y="3023640"/>
            <a:ext cx="324180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5C59-9A89-403F-AA18-879737B6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720360"/>
            <a:ext cx="3133800" cy="1392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280" y="2496600"/>
            <a:ext cx="15818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308680" y="2496600"/>
            <a:ext cx="15818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7280" y="3023640"/>
            <a:ext cx="15818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308680" y="3023640"/>
            <a:ext cx="15818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A722-D4EF-421D-A5E2-EC3EC3012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720360"/>
            <a:ext cx="3133800" cy="1392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47280" y="2496600"/>
            <a:ext cx="10436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743480" y="2496600"/>
            <a:ext cx="10436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839680" y="2496600"/>
            <a:ext cx="10436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47280" y="3023640"/>
            <a:ext cx="10436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1743480" y="3023640"/>
            <a:ext cx="10436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2839680" y="3023640"/>
            <a:ext cx="10436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691D-02A2-4C0B-9A0C-B5E31FBA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720360"/>
            <a:ext cx="3133800" cy="1392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47280" y="2496600"/>
            <a:ext cx="324180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7FCE-192F-45B4-9DBF-099C987A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720360"/>
            <a:ext cx="3133800" cy="1392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7280" y="2496600"/>
            <a:ext cx="15818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308680" y="2496600"/>
            <a:ext cx="15818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6E19-007D-451E-8CBB-D7877BA8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720360"/>
            <a:ext cx="3133800" cy="1392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02A2-2FC4-44BA-B118-009B5C51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71280" y="720360"/>
            <a:ext cx="3133800" cy="6454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FB1A-A6B1-4B68-8B9B-2A45E856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720360"/>
            <a:ext cx="3133800" cy="1392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47280" y="2496600"/>
            <a:ext cx="15818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308680" y="2496600"/>
            <a:ext cx="15818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47280" y="3023640"/>
            <a:ext cx="15818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51F6-C16E-4939-88E0-75CB4BAA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720360"/>
            <a:ext cx="3133800" cy="1392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47280" y="2496600"/>
            <a:ext cx="15818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308680" y="2496600"/>
            <a:ext cx="15818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308680" y="3023640"/>
            <a:ext cx="15818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AA95-0AAA-4D5A-9D3F-E4E9A5F1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720360"/>
            <a:ext cx="3133800" cy="1392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47280" y="2496600"/>
            <a:ext cx="15818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308680" y="2496600"/>
            <a:ext cx="15818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47280" y="3023640"/>
            <a:ext cx="324180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D1BC-1F99-4C49-946A-69615CA6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4105440" cy="3073320"/>
            <a:chOff x="0" y="0"/>
            <a:chExt cx="4105440" cy="30733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8000" cy="30733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3560"/>
                  <a:tab algn="l" pos="987480"/>
                  <a:tab algn="l" pos="1481040"/>
                  <a:tab algn="l" pos="1974960"/>
                  <a:tab algn="l" pos="2468520"/>
                  <a:tab algn="l" pos="2962440"/>
                  <a:tab algn="l" pos="3456000"/>
                  <a:tab algn="l" pos="3949560"/>
                  <a:tab algn="l" pos="4443480"/>
                  <a:tab algn="l" pos="4937040"/>
                  <a:tab algn="l" pos="5430960"/>
                  <a:tab algn="l" pos="5924520"/>
                  <a:tab algn="l" pos="6418440"/>
                  <a:tab algn="l" pos="6912000"/>
                  <a:tab algn="l" pos="7405560"/>
                  <a:tab algn="l" pos="7899480"/>
                  <a:tab algn="l" pos="8393040"/>
                  <a:tab algn="l" pos="8886960"/>
                  <a:tab algn="l" pos="9380520"/>
                  <a:tab algn="l" pos="9874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80000" y="893160"/>
              <a:ext cx="3925440" cy="114840"/>
              <a:chOff x="180000" y="893160"/>
              <a:chExt cx="3925440" cy="114840"/>
            </a:xfrm>
          </p:grpSpPr>
          <p:sp>
            <p:nvSpPr>
              <p:cNvPr id="3" name=""/>
              <p:cNvSpPr/>
              <p:nvPr/>
            </p:nvSpPr>
            <p:spPr>
              <a:xfrm>
                <a:off x="3241080" y="893160"/>
                <a:ext cx="864000" cy="114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9320" rIns="49320" tIns="24840" bIns="24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93560"/>
                    <a:tab algn="l" pos="987480"/>
                    <a:tab algn="l" pos="1481040"/>
                    <a:tab algn="l" pos="1974960"/>
                    <a:tab algn="l" pos="2468520"/>
                    <a:tab algn="l" pos="2962440"/>
                    <a:tab algn="l" pos="3456000"/>
                    <a:tab algn="l" pos="3949560"/>
                    <a:tab algn="l" pos="4443480"/>
                    <a:tab algn="l" pos="4937040"/>
                    <a:tab algn="l" pos="5430960"/>
                    <a:tab algn="l" pos="5924520"/>
                    <a:tab algn="l" pos="6418440"/>
                    <a:tab algn="l" pos="6912000"/>
                    <a:tab algn="l" pos="7405560"/>
                    <a:tab algn="l" pos="7899480"/>
                    <a:tab algn="l" pos="8393040"/>
                    <a:tab algn="l" pos="8886960"/>
                    <a:tab algn="l" pos="9380520"/>
                    <a:tab algn="l" pos="9874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80000" y="941040"/>
                <a:ext cx="392544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1280" y="174600"/>
            <a:ext cx="367380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23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31280" y="1007640"/>
            <a:ext cx="3673800" cy="2854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marL="185760" indent="-185760"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54080"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617400" indent="-123840">
              <a:spcBef>
                <a:spcPts val="37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122400">
              <a:spcBef>
                <a:spcPts val="37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111320" indent="-123840">
              <a:spcBef>
                <a:spcPts val="37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111320" indent="-123840"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111320" indent="-123840"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31640" y="3938760"/>
            <a:ext cx="936720" cy="288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Autofit/>
          </a:bodyPr>
          <a:lstStyle>
            <a:lvl1pPr marL="216000"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1584000" y="3936600"/>
            <a:ext cx="1405080" cy="28908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Autofit/>
          </a:bodyPr>
          <a:lstStyle>
            <a:lvl1pPr marL="216000"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3204720" y="3936600"/>
            <a:ext cx="900360" cy="28908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Autofit/>
          </a:bodyPr>
          <a:lstStyle>
            <a:lvl1pPr marL="216000" indent="0" algn="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fld id="{1F7949E0-2921-44B7-98DC-162F06ACDE4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073320"/>
            <a:ext cx="2872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4141440" cy="3744720"/>
            <a:chOff x="0" y="0"/>
            <a:chExt cx="4141440" cy="3744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828000" cy="30729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3560"/>
                  <a:tab algn="l" pos="987480"/>
                  <a:tab algn="l" pos="1481040"/>
                  <a:tab algn="l" pos="1974960"/>
                  <a:tab algn="l" pos="2468520"/>
                  <a:tab algn="l" pos="2962440"/>
                  <a:tab algn="l" pos="3456000"/>
                  <a:tab algn="l" pos="3949560"/>
                  <a:tab algn="l" pos="4443480"/>
                  <a:tab algn="l" pos="4937040"/>
                  <a:tab algn="l" pos="5430960"/>
                  <a:tab algn="l" pos="5924520"/>
                  <a:tab algn="l" pos="6418440"/>
                  <a:tab algn="l" pos="6912000"/>
                  <a:tab algn="l" pos="7405560"/>
                  <a:tab algn="l" pos="7899480"/>
                  <a:tab algn="l" pos="8393040"/>
                  <a:tab algn="l" pos="8886960"/>
                  <a:tab algn="l" pos="9380520"/>
                  <a:tab algn="l" pos="9874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2208600"/>
              <a:ext cx="4141440" cy="1536120"/>
              <a:chOff x="0" y="2208600"/>
              <a:chExt cx="4141440" cy="1536120"/>
            </a:xfrm>
          </p:grpSpPr>
          <p:sp>
            <p:nvSpPr>
              <p:cNvPr id="50" name=""/>
              <p:cNvSpPr/>
              <p:nvPr/>
            </p:nvSpPr>
            <p:spPr>
              <a:xfrm>
                <a:off x="468000" y="2208600"/>
                <a:ext cx="3673440" cy="153612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9320" rIns="49320" tIns="24840" bIns="24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93560"/>
                    <a:tab algn="l" pos="987480"/>
                    <a:tab algn="l" pos="1481040"/>
                    <a:tab algn="l" pos="1974960"/>
                    <a:tab algn="l" pos="2468520"/>
                    <a:tab algn="l" pos="2962440"/>
                    <a:tab algn="l" pos="3456000"/>
                    <a:tab algn="l" pos="3949560"/>
                    <a:tab algn="l" pos="4443480"/>
                    <a:tab algn="l" pos="4937040"/>
                    <a:tab algn="l" pos="5430960"/>
                    <a:tab algn="l" pos="5924520"/>
                    <a:tab algn="l" pos="6418440"/>
                    <a:tab algn="l" pos="6912000"/>
                    <a:tab algn="l" pos="7405560"/>
                    <a:tab algn="l" pos="7899480"/>
                    <a:tab algn="l" pos="8393040"/>
                    <a:tab algn="l" pos="8886960"/>
                    <a:tab algn="l" pos="9380520"/>
                    <a:tab algn="l" pos="9874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90680" y="2352600"/>
                <a:ext cx="3615120" cy="134712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9320" rIns="49320" tIns="24840" bIns="24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93560"/>
                    <a:tab algn="l" pos="987480"/>
                    <a:tab algn="l" pos="1481040"/>
                    <a:tab algn="l" pos="1974960"/>
                    <a:tab algn="l" pos="2468520"/>
                    <a:tab algn="l" pos="2962440"/>
                    <a:tab algn="l" pos="3456000"/>
                    <a:tab algn="l" pos="3949560"/>
                    <a:tab algn="l" pos="4443480"/>
                    <a:tab algn="l" pos="4937040"/>
                    <a:tab algn="l" pos="5430960"/>
                    <a:tab algn="l" pos="5924520"/>
                    <a:tab algn="l" pos="6418440"/>
                    <a:tab algn="l" pos="6912000"/>
                    <a:tab algn="l" pos="7405560"/>
                    <a:tab algn="l" pos="7899480"/>
                    <a:tab algn="l" pos="8393040"/>
                    <a:tab algn="l" pos="8886960"/>
                    <a:tab algn="l" pos="9380520"/>
                    <a:tab algn="l" pos="9874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072600"/>
                <a:ext cx="46800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299880" y="335880"/>
              <a:ext cx="3817800" cy="191880"/>
              <a:chOff x="299880" y="335880"/>
              <a:chExt cx="3817800" cy="191880"/>
            </a:xfrm>
          </p:grpSpPr>
          <p:sp>
            <p:nvSpPr>
              <p:cNvPr id="54" name=""/>
              <p:cNvSpPr/>
              <p:nvPr/>
            </p:nvSpPr>
            <p:spPr>
              <a:xfrm>
                <a:off x="2964960" y="335880"/>
                <a:ext cx="1152360" cy="1918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9320" rIns="49320" tIns="24840" bIns="24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93560"/>
                    <a:tab algn="l" pos="987480"/>
                    <a:tab algn="l" pos="1481040"/>
                    <a:tab algn="l" pos="1974960"/>
                    <a:tab algn="l" pos="2468520"/>
                    <a:tab algn="l" pos="2962440"/>
                    <a:tab algn="l" pos="3456000"/>
                    <a:tab algn="l" pos="3949560"/>
                    <a:tab algn="l" pos="4443480"/>
                    <a:tab algn="l" pos="4937040"/>
                    <a:tab algn="l" pos="5430960"/>
                    <a:tab algn="l" pos="5924520"/>
                    <a:tab algn="l" pos="6418440"/>
                    <a:tab algn="l" pos="6912000"/>
                    <a:tab algn="l" pos="7405560"/>
                    <a:tab algn="l" pos="7899480"/>
                    <a:tab algn="l" pos="8393040"/>
                    <a:tab algn="l" pos="8886960"/>
                    <a:tab algn="l" pos="9380520"/>
                    <a:tab algn="l" pos="9874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99880" y="431640"/>
                <a:ext cx="38178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280" y="720360"/>
            <a:ext cx="3133800" cy="1392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26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31280" y="3938760"/>
            <a:ext cx="900360" cy="288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Autofit/>
          </a:bodyPr>
          <a:lstStyle>
            <a:lvl1pPr marL="216000"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1585440" y="3936600"/>
            <a:ext cx="1368360" cy="28908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Autofit/>
          </a:bodyPr>
          <a:lstStyle>
            <a:lvl1pPr marL="216000"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3204720" y="3936600"/>
            <a:ext cx="900360" cy="28908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Autofit/>
          </a:bodyPr>
          <a:lstStyle>
            <a:lvl1pPr marL="216000" indent="0" algn="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fld id="{D0FF58EA-6AD5-47CE-9B18-70CB515D99C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216000" y="1010880"/>
            <a:ext cx="3887640" cy="25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47680" indent="0" algn="ctr">
              <a:spcBef>
                <a:spcPts val="349"/>
              </a:spcBef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93560" algn="ctr">
              <a:spcBef>
                <a:spcPts val="3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  <a:tab algn="l" pos="10368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41240" algn="ctr">
              <a:spcBef>
                <a:spcPts val="275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  <a:tab algn="l" pos="10368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987480" algn="ctr">
              <a:spcBef>
                <a:spcPts val="275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  <a:tab algn="l" pos="10368000"/>
                <a:tab algn="l" pos="108615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987480">
              <a:spcBef>
                <a:spcPts val="2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987480">
              <a:spcBef>
                <a:spcPts val="2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720360"/>
            <a:ext cx="3133800" cy="1392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47280" y="2496600"/>
            <a:ext cx="3241800" cy="1008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21080" cy="4321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16000" y="216000"/>
            <a:ext cx="39052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urier New"/>
              </a:rPr>
              <a:t>ΗΛΙΑΣ ΠΟΛΙΤΗΣ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728720" y="720720"/>
            <a:ext cx="23796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urier New"/>
              </a:rPr>
              <a:t>ΕΠΙΒΑΤΗΣ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32000" y="1368360"/>
            <a:ext cx="165564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Συλλογή με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ακυκλοφόρητα και καινούρια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τραγούδια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  <p:sp>
        <p:nvSpPr>
          <p:cNvPr id="103" name=""/>
          <p:cNvSpPr/>
          <p:nvPr/>
        </p:nvSpPr>
        <p:spPr>
          <a:xfrm>
            <a:off x="2232000" y="1728720"/>
            <a:ext cx="30970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crosoft JhengHei UI Light"/>
                <a:ea typeface="Microsoft JhengHei UI Light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Yu Gothic UI Light"/>
                <a:ea typeface="Yu Gothic UI Light"/>
              </a:rPr>
              <a:t>Συμμετέχει </a:t>
            </a:r>
            <a:r>
              <a:rPr b="1" lang="en-US" sz="1600" spc="-1" strike="noStrike">
                <a:solidFill>
                  <a:srgbClr val="000000"/>
                </a:solidFill>
                <a:latin typeface="Microsoft JhengHei UI Light"/>
                <a:ea typeface="Microsoft JhengHei UI 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40000" y="2016000"/>
            <a:ext cx="2881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l-GR" sz="1600" spc="-1" strike="noStrike">
                <a:solidFill>
                  <a:srgbClr val="000000"/>
                </a:solidFill>
                <a:latin typeface="Microsoft JhengHei UI Light"/>
                <a:ea typeface="Microsoft JhengHei UI Light"/>
              </a:rPr>
              <a:t>Η Δέσποινα Παντελίδου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144360" y="1008000"/>
            <a:ext cx="2449440" cy="9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l-GR" sz="1800" spc="-1" strike="noStrike">
                <a:solidFill>
                  <a:srgbClr val="000000"/>
                </a:solidFill>
                <a:latin typeface="Good Times"/>
                <a:ea typeface="Yu Gothic UI Light"/>
              </a:rPr>
              <a:t>Μουσική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Good Times"/>
                <a:ea typeface="Yu Gothic UI Light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Good Times"/>
                <a:ea typeface="Yu Gothic UI Light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Good Times"/>
                <a:ea typeface="Yu Gothic UI Light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Good Times"/>
                <a:ea typeface="Yu Gothic UI Light"/>
              </a:rPr>
              <a:t>Ηλίας Πολίτη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l-GR" sz="2000" spc="-1" strike="noStrike">
                <a:solidFill>
                  <a:srgbClr val="cccc99"/>
                </a:solidFill>
                <a:latin typeface="Microsoft JhengHei UI Light"/>
                <a:ea typeface="Microsoft JhengHei UI Light"/>
              </a:rPr>
              <a:t>              </a:t>
            </a:r>
            <a:r>
              <a:rPr b="0" lang="el-GR" sz="900" spc="-1" strike="noStrike">
                <a:solidFill>
                  <a:srgbClr val="cccc99"/>
                </a:solidFill>
                <a:latin typeface="Microsoft JhengHei UI Light"/>
                <a:ea typeface="Microsoft JhengHei UI Light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496880"/>
            <a:ext cx="2521080" cy="30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l-GR" sz="1000" spc="-1" strike="noStrike">
                <a:solidFill>
                  <a:srgbClr val="ffffe1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l-GR" sz="1000" spc="-1" strike="noStrike">
                <a:solidFill>
                  <a:srgbClr val="ffffe1"/>
                </a:solidFill>
                <a:latin typeface="Arial"/>
              </a:rPr>
              <a:t>                    </a:t>
            </a:r>
            <a:r>
              <a:rPr b="1" lang="el-GR" sz="1300" spc="-1" strike="noStrike">
                <a:solidFill>
                  <a:srgbClr val="ffff66"/>
                </a:solidFill>
                <a:latin typeface="Yu Gothic UI Light"/>
                <a:ea typeface="Yu Gothic UI Light"/>
              </a:rPr>
              <a:t>Στίχοι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1300" spc="-1" strike="noStrike">
                <a:solidFill>
                  <a:srgbClr val="ffff66"/>
                </a:solidFill>
                <a:latin typeface="Yu Gothic UI Light"/>
                <a:ea typeface="Yu Gothic UI Light"/>
              </a:rPr>
              <a:t>   </a:t>
            </a:r>
            <a:r>
              <a:rPr b="1" lang="el-GR" sz="1300" spc="-1" strike="noStrike">
                <a:solidFill>
                  <a:srgbClr val="ffff66"/>
                </a:solidFill>
                <a:latin typeface="Yu Gothic UI Light"/>
                <a:ea typeface="Yu Gothic UI Light"/>
              </a:rPr>
              <a:t>Γιώργος Σταματόπουλο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1300" spc="-1" strike="noStrike">
                <a:solidFill>
                  <a:srgbClr val="ffff66"/>
                </a:solidFill>
                <a:latin typeface="Yu Gothic UI Light"/>
                <a:ea typeface="Yu Gothic UI Light"/>
              </a:rPr>
              <a:t>     </a:t>
            </a:r>
            <a:r>
              <a:rPr b="1" lang="en-US" sz="1300" spc="-1" strike="noStrike">
                <a:solidFill>
                  <a:srgbClr val="ffff66"/>
                </a:solidFill>
                <a:latin typeface="Yu Gothic UI Light"/>
                <a:ea typeface="Yu Gothic UI Light"/>
              </a:rPr>
              <a:t> </a:t>
            </a:r>
            <a:r>
              <a:rPr b="1" lang="el-GR" sz="1300" spc="-1" strike="noStrike">
                <a:solidFill>
                  <a:srgbClr val="ffff66"/>
                </a:solidFill>
                <a:latin typeface="Yu Gothic UI Light"/>
                <a:ea typeface="Yu Gothic UI Light"/>
              </a:rPr>
              <a:t>   </a:t>
            </a:r>
            <a:r>
              <a:rPr b="1" lang="el-GR" sz="1300" spc="-1" strike="noStrike">
                <a:solidFill>
                  <a:srgbClr val="ffff66"/>
                </a:solidFill>
                <a:latin typeface="Yu Gothic UI Light"/>
                <a:ea typeface="Yu Gothic UI Light"/>
              </a:rPr>
              <a:t>Ηλίας Πολίτης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1300" spc="-1" strike="noStrike">
                <a:solidFill>
                  <a:srgbClr val="ffff66"/>
                </a:solidFill>
                <a:latin typeface="Yu Gothic UI Light"/>
                <a:ea typeface="Yu Gothic UI Light"/>
              </a:rPr>
              <a:t>   </a:t>
            </a:r>
            <a:r>
              <a:rPr b="1" lang="en-US" sz="1300" spc="-1" strike="noStrike">
                <a:solidFill>
                  <a:srgbClr val="ffff66"/>
                </a:solidFill>
                <a:latin typeface="Yu Gothic UI Light"/>
                <a:ea typeface="Yu Gothic UI Light"/>
              </a:rPr>
              <a:t> </a:t>
            </a:r>
            <a:r>
              <a:rPr b="1" lang="el-GR" sz="1300" spc="-1" strike="noStrike">
                <a:solidFill>
                  <a:srgbClr val="ffff66"/>
                </a:solidFill>
                <a:latin typeface="Yu Gothic UI Light"/>
                <a:ea typeface="Yu Gothic UI Light"/>
              </a:rPr>
              <a:t>Δέσποινα Παντελίδου</a:t>
            </a:r>
            <a:r>
              <a:rPr b="1" lang="el-GR" sz="13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1300" spc="-1" strike="noStrike">
                <a:solidFill>
                  <a:srgbClr val="ffff66"/>
                </a:solidFill>
                <a:latin typeface="Yu Gothic UI Light"/>
                <a:ea typeface="Yu Gothic UI Light"/>
              </a:rPr>
              <a:t>    </a:t>
            </a:r>
            <a:r>
              <a:rPr b="1" lang="en-US" sz="1300" spc="-1" strike="noStrike">
                <a:solidFill>
                  <a:srgbClr val="ffff66"/>
                </a:solidFill>
                <a:latin typeface="Yu Gothic UI Light"/>
                <a:ea typeface="Yu Gothic UI Light"/>
              </a:rPr>
              <a:t>  </a:t>
            </a:r>
            <a:r>
              <a:rPr b="1" lang="el-GR" sz="1300" spc="-1" strike="noStrike">
                <a:solidFill>
                  <a:srgbClr val="ffff66"/>
                </a:solidFill>
                <a:latin typeface="Yu Gothic UI Light"/>
                <a:ea typeface="Yu Gothic UI Light"/>
              </a:rPr>
              <a:t> </a:t>
            </a:r>
            <a:r>
              <a:rPr b="1" lang="el-GR" sz="1300" spc="-1" strike="noStrike">
                <a:solidFill>
                  <a:srgbClr val="ffff66"/>
                </a:solidFill>
                <a:latin typeface="Yu Gothic UI Light"/>
                <a:ea typeface="Yu Gothic UI Light"/>
              </a:rPr>
              <a:t>Γιώργος Ντέρο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1300" spc="-1" strike="noStrike">
                <a:solidFill>
                  <a:srgbClr val="ffff66"/>
                </a:solidFill>
                <a:latin typeface="Yu Gothic UI Light"/>
                <a:ea typeface="Yu Gothic UI Light"/>
              </a:rPr>
              <a:t>   </a:t>
            </a:r>
            <a:r>
              <a:rPr b="1" lang="en-US" sz="1300" spc="-1" strike="noStrike">
                <a:solidFill>
                  <a:srgbClr val="ffff66"/>
                </a:solidFill>
                <a:latin typeface="Yu Gothic UI Light"/>
                <a:ea typeface="Yu Gothic UI Light"/>
              </a:rPr>
              <a:t>   </a:t>
            </a:r>
            <a:r>
              <a:rPr b="1" lang="el-GR" sz="1300" spc="-1" strike="noStrike">
                <a:solidFill>
                  <a:srgbClr val="ffff66"/>
                </a:solidFill>
                <a:latin typeface="Yu Gothic UI Light"/>
                <a:ea typeface="Yu Gothic UI Light"/>
              </a:rPr>
              <a:t> </a:t>
            </a:r>
            <a:r>
              <a:rPr b="1" lang="el-GR" sz="1300" spc="-1" strike="noStrike">
                <a:solidFill>
                  <a:srgbClr val="ffff66"/>
                </a:solidFill>
                <a:latin typeface="Yu Gothic UI Light"/>
                <a:ea typeface="Yu Gothic UI Light"/>
              </a:rPr>
              <a:t>Ντέπη Μανώνα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1300" spc="-1" strike="noStrike">
                <a:solidFill>
                  <a:srgbClr val="ffff66"/>
                </a:solidFill>
                <a:latin typeface="Yu Gothic UI Light"/>
                <a:ea typeface="Yu Gothic UI Light"/>
              </a:rPr>
              <a:t> </a:t>
            </a:r>
            <a:r>
              <a:rPr b="1" lang="en-US" sz="1300" spc="-1" strike="noStrike">
                <a:solidFill>
                  <a:srgbClr val="ffff66"/>
                </a:solidFill>
                <a:latin typeface="Yu Gothic UI Light"/>
                <a:ea typeface="Yu Gothic UI Light"/>
              </a:rPr>
              <a:t>  </a:t>
            </a:r>
            <a:r>
              <a:rPr b="1" lang="el-GR" sz="1300" spc="-1" strike="noStrike">
                <a:solidFill>
                  <a:srgbClr val="ffff66"/>
                </a:solidFill>
                <a:latin typeface="Yu Gothic UI Light"/>
                <a:ea typeface="Yu Gothic UI Light"/>
              </a:rPr>
              <a:t> </a:t>
            </a:r>
            <a:r>
              <a:rPr b="1" lang="el-GR" sz="1300" spc="-1" strike="noStrike">
                <a:solidFill>
                  <a:srgbClr val="ffff66"/>
                </a:solidFill>
                <a:latin typeface="Yu Gothic UI Light"/>
                <a:ea typeface="Yu Gothic UI Light"/>
              </a:rPr>
              <a:t>Βασίλης Τραϊφόρο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1300" spc="-1" strike="noStrike">
                <a:solidFill>
                  <a:srgbClr val="ffff66"/>
                </a:solidFill>
                <a:latin typeface="Yu Gothic UI Light"/>
                <a:ea typeface="Yu Gothic UI Light"/>
              </a:rPr>
              <a:t>  </a:t>
            </a:r>
            <a:r>
              <a:rPr b="1" lang="el-GR" sz="1300" spc="-1" strike="noStrike">
                <a:solidFill>
                  <a:srgbClr val="ffff66"/>
                </a:solidFill>
                <a:latin typeface="Yu Gothic UI Light"/>
                <a:ea typeface="Yu Gothic UI Light"/>
              </a:rPr>
              <a:t>Νίκος Παπαθεοφάνους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1300" spc="-1" strike="noStrike">
                <a:solidFill>
                  <a:srgbClr val="ffff66"/>
                </a:solidFill>
                <a:latin typeface="Yu Gothic UI Light"/>
                <a:ea typeface="Yu Gothic UI Light"/>
              </a:rPr>
              <a:t> </a:t>
            </a:r>
            <a:r>
              <a:rPr b="1" lang="el-GR" sz="1300" spc="-1" strike="noStrike">
                <a:solidFill>
                  <a:srgbClr val="ffff66"/>
                </a:solidFill>
                <a:latin typeface="Yu Gothic UI Light"/>
                <a:ea typeface="Yu Gothic UI Light"/>
              </a:rPr>
              <a:t>Ελένη Μέη Ασημακοπούλου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1300" spc="-1" strike="noStrike">
                <a:solidFill>
                  <a:srgbClr val="ffff66"/>
                </a:solidFill>
                <a:latin typeface="Yu Gothic UI Light"/>
                <a:ea typeface="Yu Gothic UI Light"/>
              </a:rPr>
              <a:t>      </a:t>
            </a:r>
            <a:r>
              <a:rPr b="1" lang="el-GR" sz="1300" spc="-1" strike="noStrike">
                <a:solidFill>
                  <a:srgbClr val="ffff66"/>
                </a:solidFill>
                <a:latin typeface="Yu Gothic UI Light"/>
                <a:ea typeface="Yu Gothic UI Light"/>
              </a:rPr>
              <a:t>Δημήτρης Λιάκος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1300" spc="-1" strike="noStrike">
                <a:solidFill>
                  <a:srgbClr val="ffff66"/>
                </a:solidFill>
                <a:latin typeface="Yu Gothic UI Light"/>
                <a:ea typeface="Yu Gothic UI Light"/>
              </a:rPr>
              <a:t>  </a:t>
            </a:r>
            <a:r>
              <a:rPr b="1" lang="el-GR" sz="1300" spc="-1" strike="noStrike">
                <a:solidFill>
                  <a:srgbClr val="ffff66"/>
                </a:solidFill>
                <a:latin typeface="Yu Gothic UI Light"/>
                <a:ea typeface="Yu Gothic UI Light"/>
              </a:rPr>
              <a:t>Γεώργιος Νικολακάκος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1300" spc="-1" strike="noStrike">
                <a:solidFill>
                  <a:srgbClr val="ffff66"/>
                </a:solidFill>
                <a:latin typeface="Yu Gothic UI Light"/>
                <a:ea typeface="Yu Gothic UI Light"/>
              </a:rPr>
              <a:t>  </a:t>
            </a:r>
            <a:r>
              <a:rPr b="1" lang="el-GR" sz="1300" spc="-1" strike="noStrike">
                <a:solidFill>
                  <a:srgbClr val="ffff66"/>
                </a:solidFill>
                <a:latin typeface="Yu Gothic UI Light"/>
                <a:ea typeface="Yu Gothic UI Light"/>
              </a:rPr>
              <a:t>Κώστας Ξηρογιάννη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0" y="2448000"/>
            <a:ext cx="8222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ΔΙΣΚΟ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ΠΡΩΤΟ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60360" y="647640"/>
            <a:ext cx="1008000" cy="362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60360" y="576360"/>
            <a:ext cx="10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Yu Gothic UI Light"/>
                <a:ea typeface="Yu Gothic UI Light"/>
              </a:rPr>
              <a:t>Μια δράση των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3T09:12:22Z</dcterms:created>
  <dc:creator>ELIAS</dc:creator>
  <dc:description/>
  <dc:language>en-US</dc:language>
  <cp:lastModifiedBy>ELIAS</cp:lastModifiedBy>
  <dcterms:modified xsi:type="dcterms:W3CDTF">2018-05-13T04:35:02Z</dcterms:modified>
  <cp:revision>18</cp:revision>
  <dc:subject/>
  <dc:title>Διαφάνεια 1</dc:title>
</cp:coreProperties>
</file>