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19588" cy="431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2E8D-E825-420E-8802-5AFA545B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00" y="173160"/>
            <a:ext cx="3889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00" y="1008000"/>
            <a:ext cx="388944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00" y="2498040"/>
            <a:ext cx="388944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3117-2E22-4DAE-91D0-DF9D65FF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00" y="173160"/>
            <a:ext cx="3889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00" y="1008000"/>
            <a:ext cx="189792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9320" y="1008000"/>
            <a:ext cx="189792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00" y="2498040"/>
            <a:ext cx="189792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9320" y="2498040"/>
            <a:ext cx="189792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EF76-5525-4E49-AE30-E4502AC2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00" y="173160"/>
            <a:ext cx="3889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00" y="1008000"/>
            <a:ext cx="125208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1080" y="1008000"/>
            <a:ext cx="125208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6160" y="1008000"/>
            <a:ext cx="125208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00" y="2498040"/>
            <a:ext cx="125208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1080" y="2498040"/>
            <a:ext cx="125208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6160" y="2498040"/>
            <a:ext cx="125208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F62A-58BB-4929-AFFF-3B258399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00" y="173160"/>
            <a:ext cx="3889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00" y="1008000"/>
            <a:ext cx="3889440" cy="2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11A7-15A5-4C92-A4C1-8BA010FA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00" y="173160"/>
            <a:ext cx="3889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00" y="1008000"/>
            <a:ext cx="3889440" cy="28526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FC3B-EEC5-4150-B049-06499CEF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00" y="173160"/>
            <a:ext cx="3889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00" y="1008000"/>
            <a:ext cx="1897920" cy="28526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9320" y="1008000"/>
            <a:ext cx="1897920" cy="28526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C0C3-016F-4748-B629-08A75D43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00" y="173160"/>
            <a:ext cx="3889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148B-003C-42DC-8BBB-FBE35C1A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00" y="173160"/>
            <a:ext cx="3889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6D93-50A3-491B-A38F-A1A41109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00" y="173160"/>
            <a:ext cx="3889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00" y="1008000"/>
            <a:ext cx="189792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9320" y="1008000"/>
            <a:ext cx="1897920" cy="28526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00" y="2498040"/>
            <a:ext cx="189792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6C57-4EF2-438A-B625-E911BD05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00" y="173160"/>
            <a:ext cx="3889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00" y="1008000"/>
            <a:ext cx="1897920" cy="28526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9320" y="1008000"/>
            <a:ext cx="189792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9320" y="2498040"/>
            <a:ext cx="189792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053-250B-4B3E-B415-915FA01B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00" y="173160"/>
            <a:ext cx="3889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00" y="1008000"/>
            <a:ext cx="189792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9320" y="1008000"/>
            <a:ext cx="189792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00" y="2498040"/>
            <a:ext cx="3889440" cy="1360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A7CA-834C-4D8C-9850-54A14E34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00" y="173160"/>
            <a:ext cx="3889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00" y="1008000"/>
            <a:ext cx="3889440" cy="28526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marL="185760" indent="-1857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5408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617400" indent="-123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1224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111320" indent="-1238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111320" indent="-1238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111320" indent="-1238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00" y="3935160"/>
            <a:ext cx="1008000" cy="2998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lstStyle>
            <a:lvl1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000" y="3935160"/>
            <a:ext cx="1368360" cy="2998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lstStyle>
            <a:lvl1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720" y="3935160"/>
            <a:ext cx="1008360" cy="2998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lstStyle>
            <a:lvl1pPr indent="0" algn="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fld id="{0DDFCDD5-8F1C-42EC-AA2A-60E4A1F4555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343160"/>
            <a:ext cx="3673440" cy="9252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7280" y="2447640"/>
            <a:ext cx="30258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21080" cy="4321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4360" y="439560"/>
            <a:ext cx="4176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Πάει καιρός που έχω κάνει μια προσωπική ολοκληρωμένη δουλειά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Άλλα ήθη και έθιμα προστάζει η νέα τεχνολογία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Σχεδόν έχουν περάσει 8 χρόνια  από την 3η Παράλληλο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με όμορφες συνεργασίες με νέα τραγούδια   μεμονωμένα 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με στιγμές που γεμίζουν την καρδιά και το μυαλού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Με επιλογές δικές μου , όπως εγώ τις φαντάστηκα 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Με εικόνες που γαληνεύουν τη ματιά και την ψυχή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Ένα ταξίδι η ζωή κι εγώ επιβάτης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Μια τριπλή συλλογή ακυκλοφόρητων δημιουργιών αλλά και καινούρια τραγούδι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Διάσπαρτα κάποια στο Ίντερνετ , κάποια άλλα κλεισμένα στο συρτάρι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ή σε παλιές κασέτες και ψηφιακούς δίσκους για μια ακόμη υπενθύμιση 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Στη φωτογραφία του εξωφύλλου το παλιό μας ποδήλατο των παιδικών χρόνων 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Κάπου εκεί εξελίσσεται μια ακόμη ιστορία , στην παλιά μας γειτονιά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Με τα νυχτολούλουδα και τα γιασεμιά 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Μυρωδιές , θύμησες και αρώματα , έχει η διαδρομή 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Μέσα από αυτές τις συλλογές θα σας πούμε για την αγάπη , για τον χωρισμό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Για την ανεμελιά των 20 χρόνων , τις επιλογές των 30 , την ανασφάλεια των 40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Για την ελπίδα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Ευχαριστώ όλους τους στιχουργούς που μου χάρισαν απλόχερα την ψυχή τους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Για να τους δώσω φωνή  και επιβιβαστήκαμε όλοι μαζί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για άλλη μια φορά στο ίδιο βαγόνι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Ευχαριστώ τη Δέσποινα Παντελίδου για τη συμμετοχή της στους δίσκους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Ερμηνεύοντας και γράφοντας στίχους για τις στιγμές που τόσο πιστεύει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Υ.Γ Αυτοί οι δίσκοι είναι αφιερωμένοι στους γονείς μου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Που πάντα υπάρχουν μέσα μου και μου μιλάνε με ήθος και αξιοπρέπεια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για όλα αυτά που φέρνει ο χρόνος 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Ελπίζω οι διαδρομές σας να είναι ευχάριστες .Καλή ακρόαση , καλή αντάμωση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                                           </a:t>
            </a: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Ηλίας Πολίτης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                                             </a:t>
            </a:r>
            <a:r>
              <a:rPr b="1" lang="en-US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10</a:t>
            </a: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/04/2018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9T21:02:48Z</dcterms:created>
  <dc:creator>ELIAS</dc:creator>
  <dc:description/>
  <dc:language>en-US</dc:language>
  <cp:lastModifiedBy>ELIAS</cp:lastModifiedBy>
  <dcterms:modified xsi:type="dcterms:W3CDTF">2018-04-10T11:58:00Z</dcterms:modified>
  <cp:revision>4</cp:revision>
  <dc:subject/>
  <dc:title>Διαφάνεια 1</dc:title>
</cp:coreProperties>
</file>