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319588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361-DB58-4386-B123-D9230F36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7A8-59B7-4F67-81E7-EDA7AEF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FA2-4501-4B20-A2CB-C7CC1062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7434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8396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472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17434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28396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9A6-DCD1-4A73-8F50-3750407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57F2-CC35-4A3F-9B49-A8A8E061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B6BE-52EE-4981-B5A2-B70D854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F73-6F7B-492D-BF4A-7A3522E2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88BE-9B14-40D7-8A92-34E58BFB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66CF-E8B9-4D17-84ED-CEC06721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280" y="720360"/>
            <a:ext cx="3133800" cy="645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1462-9EFA-48C1-9948-20C8F4E5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F805-8D71-41B4-BD4E-1454A17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8F4-B5B0-4B6F-BABE-58E6CE5D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8BE8-9ED9-43A8-B10A-C5309C7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8570-0595-4DDD-B776-C65B2FD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F61-92A4-415E-83BB-0F1F387B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92B7-CBDF-43CC-A40F-807550A5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7434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39680" y="249660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472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17434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2839680" y="3023640"/>
            <a:ext cx="10436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1FE-2205-4714-B19F-A208F64F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3E7-6DF9-47B4-B0C5-88A32C58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4FD-9445-47F2-B655-55E0906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3A1-361C-4FAC-B455-2A10FA6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71280" y="720360"/>
            <a:ext cx="3133800" cy="645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70C-6CAF-45EA-A220-60137D7A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971-5F0F-4575-83A9-9D0BEC5C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08680" y="302364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002-28E3-423D-BD66-B32E4C0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2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08680" y="2496600"/>
            <a:ext cx="15818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47280" y="3023640"/>
            <a:ext cx="32418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D9B-0D63-4D32-8702-0C2D172D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4105440" cy="3073320"/>
            <a:chOff x="0" y="0"/>
            <a:chExt cx="4105440" cy="30733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8000" cy="3073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3560"/>
                  <a:tab algn="l" pos="987480"/>
                  <a:tab algn="l" pos="1481040"/>
                  <a:tab algn="l" pos="1974960"/>
                  <a:tab algn="l" pos="2468520"/>
                  <a:tab algn="l" pos="2962440"/>
                  <a:tab algn="l" pos="3456000"/>
                  <a:tab algn="l" pos="3949560"/>
                  <a:tab algn="l" pos="4443480"/>
                  <a:tab algn="l" pos="4937040"/>
                  <a:tab algn="l" pos="5430960"/>
                  <a:tab algn="l" pos="5924520"/>
                  <a:tab algn="l" pos="6418440"/>
                  <a:tab algn="l" pos="6912000"/>
                  <a:tab algn="l" pos="7405560"/>
                  <a:tab algn="l" pos="7899480"/>
                  <a:tab algn="l" pos="8393040"/>
                  <a:tab algn="l" pos="8886960"/>
                  <a:tab algn="l" pos="9380520"/>
                  <a:tab algn="l" pos="987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80000" y="893160"/>
              <a:ext cx="3925440" cy="114840"/>
              <a:chOff x="180000" y="893160"/>
              <a:chExt cx="3925440" cy="114840"/>
            </a:xfrm>
          </p:grpSpPr>
          <p:sp>
            <p:nvSpPr>
              <p:cNvPr id="3" name=""/>
              <p:cNvSpPr/>
              <p:nvPr/>
            </p:nvSpPr>
            <p:spPr>
              <a:xfrm>
                <a:off x="3241080" y="893160"/>
                <a:ext cx="864000" cy="11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80000" y="941040"/>
                <a:ext cx="3925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280" y="174600"/>
            <a:ext cx="367380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3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31280" y="1007640"/>
            <a:ext cx="3673800" cy="285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5408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617400" indent="-12384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22400">
              <a:spcBef>
                <a:spcPts val="3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111320" indent="-123840">
              <a:spcBef>
                <a:spcPts val="3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111320" indent="-1238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111320" indent="-1238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31640" y="39387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584000" y="3936600"/>
            <a:ext cx="140508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3204720" y="3936600"/>
            <a:ext cx="90036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115FDCD3-E1EA-41C2-B60C-CDED20E509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073320"/>
            <a:ext cx="287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4141440" cy="3744720"/>
            <a:chOff x="0" y="0"/>
            <a:chExt cx="4141440" cy="3744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28000" cy="3072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3560"/>
                  <a:tab algn="l" pos="987480"/>
                  <a:tab algn="l" pos="1481040"/>
                  <a:tab algn="l" pos="1974960"/>
                  <a:tab algn="l" pos="2468520"/>
                  <a:tab algn="l" pos="2962440"/>
                  <a:tab algn="l" pos="3456000"/>
                  <a:tab algn="l" pos="3949560"/>
                  <a:tab algn="l" pos="4443480"/>
                  <a:tab algn="l" pos="4937040"/>
                  <a:tab algn="l" pos="5430960"/>
                  <a:tab algn="l" pos="5924520"/>
                  <a:tab algn="l" pos="6418440"/>
                  <a:tab algn="l" pos="6912000"/>
                  <a:tab algn="l" pos="7405560"/>
                  <a:tab algn="l" pos="7899480"/>
                  <a:tab algn="l" pos="8393040"/>
                  <a:tab algn="l" pos="8886960"/>
                  <a:tab algn="l" pos="9380520"/>
                  <a:tab algn="l" pos="987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2208600"/>
              <a:ext cx="4141440" cy="1536120"/>
              <a:chOff x="0" y="2208600"/>
              <a:chExt cx="4141440" cy="1536120"/>
            </a:xfrm>
          </p:grpSpPr>
          <p:sp>
            <p:nvSpPr>
              <p:cNvPr id="50" name=""/>
              <p:cNvSpPr/>
              <p:nvPr/>
            </p:nvSpPr>
            <p:spPr>
              <a:xfrm>
                <a:off x="468000" y="2208600"/>
                <a:ext cx="3673440" cy="1536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0680" y="2352600"/>
                <a:ext cx="3615120" cy="13471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072600"/>
                <a:ext cx="4680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99880" y="335880"/>
              <a:ext cx="3817800" cy="191880"/>
              <a:chOff x="299880" y="335880"/>
              <a:chExt cx="3817800" cy="191880"/>
            </a:xfrm>
          </p:grpSpPr>
          <p:sp>
            <p:nvSpPr>
              <p:cNvPr id="54" name=""/>
              <p:cNvSpPr/>
              <p:nvPr/>
            </p:nvSpPr>
            <p:spPr>
              <a:xfrm>
                <a:off x="2964960" y="335880"/>
                <a:ext cx="1152360" cy="191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3560"/>
                    <a:tab algn="l" pos="987480"/>
                    <a:tab algn="l" pos="1481040"/>
                    <a:tab algn="l" pos="1974960"/>
                    <a:tab algn="l" pos="2468520"/>
                    <a:tab algn="l" pos="2962440"/>
                    <a:tab algn="l" pos="3456000"/>
                    <a:tab algn="l" pos="3949560"/>
                    <a:tab algn="l" pos="4443480"/>
                    <a:tab algn="l" pos="4937040"/>
                    <a:tab algn="l" pos="5430960"/>
                    <a:tab algn="l" pos="5924520"/>
                    <a:tab algn="l" pos="6418440"/>
                    <a:tab algn="l" pos="6912000"/>
                    <a:tab algn="l" pos="7405560"/>
                    <a:tab algn="l" pos="7899480"/>
                    <a:tab algn="l" pos="8393040"/>
                    <a:tab algn="l" pos="8886960"/>
                    <a:tab algn="l" pos="9380520"/>
                    <a:tab algn="l" pos="9874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99880" y="431640"/>
                <a:ext cx="3817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31280" y="3938760"/>
            <a:ext cx="900360" cy="288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1585440" y="3936600"/>
            <a:ext cx="136836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3204720" y="3936600"/>
            <a:ext cx="900360" cy="2890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4F119A35-2066-4987-BEEE-18F5E8312C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216000" y="1010880"/>
            <a:ext cx="3887640" cy="25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7680" indent="0" algn="ctr">
              <a:spcBef>
                <a:spcPts val="349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93560" algn="ctr"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  <a:tab algn="l" pos="10368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41240" algn="ctr">
              <a:spcBef>
                <a:spcPts val="2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  <a:tab algn="l" pos="10368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87480" algn="ctr">
              <a:spcBef>
                <a:spcPts val="2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  <a:tab algn="l" pos="10368000"/>
                <a:tab algn="l" pos="108615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8748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8748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720360"/>
            <a:ext cx="3133800" cy="1392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47280" y="2496600"/>
            <a:ext cx="3241800" cy="1008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080" y="144360"/>
            <a:ext cx="4103640" cy="417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88920" y="1414440"/>
            <a:ext cx="268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1282680"/>
            <a:ext cx="31687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Πάει καιρός που έχω κάνει μια προσωπική ολοκληρωμένη δουλειά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Άλλα ήθη και έθιμα προστάζει η νέα τεχνολογία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Σχεδόν έχουν περάσει 8 χρόνια  από την 3η Παράλληλο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ε όμορφες συνεργασίες με νέα τραγούδια   μεμονωμένα ,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ε στιγμές που γεμίζουν την καρδιά και το μυαλού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ε επιλογές δικές μου , όπως εγώ τις φαντάστηκα 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ε εικόνες που γαληνεύουν τη ματιά και την ψυχή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Ένα ταξίδι η ζωή κι εγώ επιβάτης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ια τριπλή συλλογή ακυκλοφόρητων δημιουργιών αλλά και καινούρια τραγούδια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Διάσπαρτα κάποια στο Ίντερνετ , κάποια άλλα κλεισμένα στο συρτάρι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ή σε παλιές κασέτες και ψηφιακούς δίσκους για μια ακόμη υπενθύμιση 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Στη φωτογραφία του εξωφύλλου το παλιό μας ποδήλατο των παιδικών χρόνων 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Κάπου εκεί εξελίσσεται μια ακόμη ιστορία , στην παλιά μας γειτονιά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ε τα νυχτολούλουδα και τα γιασεμιά 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υρωδιές , θύμησες και αρώματα , έχει η διαδρομή 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Μέσα από αυτές τις συλλογές θα σας πούμε για την αγάπη , για τον χωρισμό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Για την ανεμελιά των 20 χρόνων , τις επιλογές των 30 , την ανασφάλεια των 40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Για την ελπίδα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Ευχαριστώ όλους τους στιχουργούς που μου χάρισαν απλόχερα την ψυχή τους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Για να τους δώσω φωνή  και επιβιβαστήκαμε όλοι μαζί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για άλλη μια φορά στο ίδιο βαγόνι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Ευχαριστώ τη Δέσποινα Παντελίδου για τη συμμετοχή της στους δίσκους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Ερμηνεύοντας και γράφοντας στίχους για τις στιγμές που τόσο πιστεύει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Υ.Γ Αυτοί οι δίσκοι είναι αφιερωμένοι στους γονείς μου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Που πάντα υπάρχουν μέσα μου και μου μιλάνε με ήθος και αξιοπρέπεια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για όλα αυτά που φέρνει ο χρόνος 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Ελπίζω οι διαδρομές σας να είναι ευχάριστες .Καλή ακρόαση , καλή αντάμωση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n-US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                                                 </a:t>
            </a: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Ηλίας Πολίτης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                                            </a:t>
            </a:r>
            <a:r>
              <a:rPr b="1" lang="en-US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       </a:t>
            </a: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 </a:t>
            </a:r>
            <a:r>
              <a:rPr b="1" lang="en-US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10</a:t>
            </a:r>
            <a:r>
              <a:rPr b="1" lang="el-GR" sz="600" spc="-1" strike="noStrike">
                <a:solidFill>
                  <a:srgbClr val="ffffe1"/>
                </a:solidFill>
                <a:latin typeface="Yu Gothic UI Light"/>
                <a:ea typeface="Yu Gothic UI Light"/>
              </a:rPr>
              <a:t>/04/2018</a:t>
            </a:r>
            <a:r>
              <a:rPr b="1" lang="el-GR" sz="600" spc="-1" strike="noStrike">
                <a:solidFill>
                  <a:srgbClr val="cccc99"/>
                </a:solidFill>
                <a:latin typeface="Yu Gothic UI Light"/>
                <a:ea typeface="Yu Gothic UI Light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0360" y="936720"/>
            <a:ext cx="649440" cy="274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080" y="86508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Yu Gothic UI Light"/>
                <a:ea typeface="Yu Gothic UI Light"/>
              </a:rPr>
              <a:t>Μια δράση τω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600360" y="3745080"/>
            <a:ext cx="41904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0" y="4044960"/>
            <a:ext cx="1152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" spc="-1" strike="noStrike">
                <a:solidFill>
                  <a:srgbClr val="ffffe1"/>
                </a:solidFill>
                <a:latin typeface="Arial"/>
              </a:rPr>
              <a:t>Χορηγός επικοινωνία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e1"/>
                </a:solidFill>
                <a:latin typeface="Arial"/>
              </a:rPr>
              <a:t>  </a:t>
            </a:r>
            <a:r>
              <a:rPr b="1" lang="en-US" sz="600" spc="-1" strike="noStrike">
                <a:solidFill>
                  <a:srgbClr val="ffffe1"/>
                </a:solidFill>
                <a:latin typeface="Arial"/>
              </a:rPr>
              <a:t>www.ellinikosfm.co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881440" y="1512720"/>
            <a:ext cx="647640" cy="63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3080" y="3456000"/>
            <a:ext cx="647640" cy="68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4360" y="38894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32360"/>
            <a:ext cx="865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" spc="-1" strike="noStrike">
                <a:solidFill>
                  <a:srgbClr val="000000"/>
                </a:solidFill>
                <a:latin typeface="Arial"/>
              </a:rPr>
              <a:t>Δέσποινα Παντελίδου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20:38:15Z</dcterms:created>
  <dc:creator>ELIAS</dc:creator>
  <dc:description/>
  <dc:language>en-US</dc:language>
  <cp:lastModifiedBy>ELIAS</cp:lastModifiedBy>
  <dcterms:modified xsi:type="dcterms:W3CDTF">2018-04-16T18:51:23Z</dcterms:modified>
  <cp:revision>7</cp:revision>
  <dc:subject/>
  <dc:title>Διαφάνεια 1</dc:title>
</cp:coreProperties>
</file>