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C30-CEFC-4007-B7A0-2DF2C4F6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673-310E-4AF4-9BD4-C11E640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F99-F230-45C9-8E6D-585BA9E6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ECD-75F4-443E-BE38-8766938F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C060-3414-40D0-8349-E4619C73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051-49F5-419D-939F-BF2D2C6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A0B-2852-4E53-B779-F598112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E8A5-CFB3-4078-97F8-331E178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CAF-46FE-4D76-8CD9-87F6D0C3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C98-81BE-47F2-B780-02476ED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C9C-5AF6-412E-92A0-065AB70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F96-EDAF-45DE-8660-CCD7F37B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3AB-FA5D-4453-986D-0E2947D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27E1-9B92-407A-93CE-405AB3A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11E2-D8E7-45F5-8E6D-B5550BF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583D-E0D1-4391-A49D-FCF94227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DA88-2F19-4347-994F-BA70F714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E81-831B-4E9D-974C-B9AE7895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F95-5A0D-470C-BFDB-8CF1065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5A6-F1FD-46E4-A76A-97D6026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E04-1B41-4A54-9E99-66B422B4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1A2-94CC-497A-89A1-D83E0BE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721-C195-48B3-A2C1-54A5B21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892-6971-47EB-AFF9-2275C6B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CDC7C-6245-4063-8177-15BBB2B4A2C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FBCF-8A60-4228-B499-F3C8A68423D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Электрическая цепь и ее составные част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ишина Л.А., учитель физ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КС(К) ОУ С  (К) ОШ 3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Новосиби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словное обозначение реост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перемещаемого движка  2 можно увеличивать или уменьшать величину сопротивления (между контактами 1 и 2 ), включаемого в электрическую цеп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нтересн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 профессор Г.К. Лихтенберг   из Геттенгена  первый предложил ввести электрические  символы, обосновал их практическое применение и использовал  в своих работах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даря ему,  в электротехнике появляются математические знаки плюс и минус для обозначения электрических заря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ИЕ ЦЕП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 чтобы созда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ческий ток, необходимо состави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мкнутую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лектрическую цепь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электрических приб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08360" y="2389320"/>
            <a:ext cx="41529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ая простая электрическая цепь состоит из 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сточника т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требителя электроэнергии  (лампа, электроплитка, электродвигатель, электрокипятильник, электробытовые прибор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мыкающего и размыкающего устройства(выключатель, кнопка, ключ, рубильник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оединительных проводов 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ая цеп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ейшая электрическая цепь, которая состоит из гальваничес-кого элемента, лампы и клю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048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ая сх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тежи, на которых показано, как электрические приборы соединены в цепь, называютс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лектрическими схе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Условные обозна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электрических схемах все элементы электрической цепи имеют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словные обозначени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лементы Цеп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360" y="1665360"/>
            <a:ext cx="797400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ле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- гальванически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- батарея элементов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- соединение проводов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- пересечение проводов на схеме без соедине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- зажимы для подключе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- ключ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- электрическая ламп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- электрический звоно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- резистор ( или иначе сопротивление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- нагревательный элемен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 - предохран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ОСТАТ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ую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противления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чину которых можно плавно изменя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могут быть переменные резисторы или сопротивления, называемы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остат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04960" cy="2361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5029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0-02-03T17:11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